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B07-D31C-4E14-89F5-6F109C85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752-A2C5-4587-B503-4A1F9202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1DB-5267-4A7D-8A7C-176B46BF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23B-3F3D-4CC4-A117-25FC44DB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0455-3233-4BCA-8486-8DC894C3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6D71-4E8D-4FA9-9939-68990C4F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2640-8C91-47DA-8493-A7438B54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173-7762-4E0E-9A9D-AAC31593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20A-BBAF-4C8C-A7EC-EA34E882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6ED2-6898-4898-A3D3-CF828D51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812-EBE4-457F-9A91-AF618104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D97-39D1-436A-B572-70862ACF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9746-053E-41E5-8CF0-040E32B25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eb.mit.edu/invent/iow/naismith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81480" y="5029200"/>
            <a:ext cx="3505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,27, Apr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609480"/>
            <a:ext cx="792504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3300"/>
                  </a:solidFill>
                  <a:miter/>
                </a:ln>
                <a:gradFill rotWithShape="0">
                  <a:gsLst>
                    <a:gs pos="0">
                      <a:srgbClr val="752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asketball</a:t>
            </a:r>
            <a:endParaRPr b="0" lang="en-US" sz="1800" spc="1" strike="noStrike">
              <a:ln w="12600">
                <a:solidFill>
                  <a:srgbClr val="cc3300"/>
                </a:solidFill>
                <a:miter/>
              </a:ln>
              <a:gradFill rotWithShape="0">
                <a:gsLst>
                  <a:gs pos="0">
                    <a:srgbClr val="752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51814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us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/7/2010,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6674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Basketball (Game), May 10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.mit.edu/invent/iow/naismit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Naismith"/>
          <p:cNvPicPr/>
          <p:nvPr/>
        </p:nvPicPr>
        <p:blipFill>
          <a:blip r:embed="rId2"/>
          <a:stretch/>
        </p:blipFill>
        <p:spPr>
          <a:xfrm>
            <a:off x="0" y="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62520" y="649116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invention is a fun thing for a di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000066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basket ball was invented in 19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the game even better they invented the backboard in 189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y invented the metal rim in 189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 basketball was made lighter in to increase speed and accuracy in 19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05120" y="0"/>
            <a:ext cx="5333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vention:Basketball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Naismith was born in November 6, 1861 in Almonte,Ont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 parents died of typhoid fever. He lived with his grand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his grandparents died he moved in with his un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when he was in college he was announced 1 of the top 10 athletes in the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he decided to make a game and so basketball wa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66680" y="533520"/>
            <a:ext cx="73152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cc3300"/>
                    </a:gs>
                  </a:gsLst>
                  <a:lin ang="13500000"/>
                </a:gradFill>
                <a:latin typeface="Arial Black"/>
              </a:rPr>
              <a:t>Inventor: James Naismi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cc3300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43:16Z</dcterms:created>
  <dc:creator>install</dc:creator>
  <dc:description/>
  <dc:language>en-US</dc:language>
  <cp:lastModifiedBy>install</cp:lastModifiedBy>
  <dcterms:modified xsi:type="dcterms:W3CDTF">2010-05-12T17:35:05Z</dcterms:modified>
  <cp:revision>7</cp:revision>
  <dc:subject/>
  <dc:title>Slide 1</dc:title>
</cp:coreProperties>
</file>